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91B2-4114-4E92-A55E-BE0697F7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C32E-7554-47B8-A158-04E8052B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2D22-FECB-45A2-862F-FB869198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B22C-0A66-4F2E-8E8B-CA9F34A5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3991-16B7-46D6-8B65-F91826C1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2E7D-9B71-4D30-855B-A4D21E02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0DA5-E88D-42AE-B550-34DCB288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F2AB-AB7A-45D3-A8AE-8650696F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2DA3-999F-4F05-8051-764CB2D3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A6CB-CE3E-44B1-BD22-E7BA7F75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FA19-C382-4B6B-941D-48DA20F3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8261-D4C7-4321-9F2D-DBA965F9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2327-ADFE-4D79-9E34-71CC07C17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tsalwaystougherinrussia2010.wikispaces.com/file/view/Culture+of+Russia+Part+2+P.1+2010.ppt" TargetMode="External"/><Relationship Id="rId2" Type="http://schemas.openxmlformats.org/officeDocument/2006/relationships/hyperlink" Target="http://itsalwaystougherinrussia2010.wikispaces.com/file/view/LANGUAGE+IN+RUSSIA.ppt" TargetMode="External"/><Relationship Id="rId3" Type="http://schemas.openxmlformats.org/officeDocument/2006/relationships/hyperlink" Target="http://itsalwaystougherinrussia2010.wikispaces.com/file/view/Holidays%2CReligion%2Cand+Folk+Stories+of+Russia+Period+1.ppt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cc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orte"/>
              </a:rPr>
              <a:t>Culture Of Russ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How to Survive in a Russian Househ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92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42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D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Before m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e on time, no more than 15 minutes later than inv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outdoor shoes, you may be given slippers to w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ess well, clothes that you might wear to the office, dressing well shows respect for your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 to be treated with respect and ho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 help to the hostess with the preparation or clearing when the meal is served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During m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Manners are necessary, the fork is held in the left hand and the knife in the right hand while e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ldest or most honored guest is served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begin eating until the host invites you to  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helpings are ur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men pour drinks for women next to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get up until you are invited to leave th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900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700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9000"/>
                            </p:stCondLst>
                            <p:childTnLst>
                              <p:par>
                                <p:cTn id="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100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000"/>
                            </p:stCondLst>
                            <p:childTnLst>
                              <p:par>
                                <p:cTn id="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Gift Giving Etique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es and friends give gifts on birthdays, New Year, and Orthodox Christ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invited to dinner or meal, bring a small g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 guests bring f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give yellow f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give gifts to a baby until after the baby is born. It is bad luck to do so soo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ssians often protest against gifts out of politeness, but if you offer the gift again afterwards, it will usually be 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998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998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998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7998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9998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1998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Delicacies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n meals and delicacies often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cht – soup made from b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chi – a type of soup made of cabb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roshki – meat styled like turno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linners – a type of rounded pa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vier – delicacy – eggs from the Sturgeon 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orte"/>
              </a:rPr>
              <a:t>Credi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Information by Liam Ro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Typed and Designed by Carmen Che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With help from Anthony F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With thanks to Mr. Griffith, and Wiki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Other Power poi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 on the culture of Russi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By Carmen, Anthony, and Li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tsalwaystougherinrussia2010.wikispaces.com/file/view/Culture+of+Russia+Part+2+P.1+2010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tsalwaystougherinrussia2010.wikispaces.com/file/view/LANGUAGE+IN+RUSSIA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tsalwaystougherinrussia2010.wikispaces.com/file/view/Holidays%2CReligion%2Cand+Folk+Stories+of+Russia+Period+1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48:33Z</dcterms:created>
  <dc:creator>RoNald</dc:creator>
  <dc:description/>
  <dc:language>en-US</dc:language>
  <cp:lastModifiedBy> </cp:lastModifiedBy>
  <dcterms:modified xsi:type="dcterms:W3CDTF">2010-12-20T18:37:42Z</dcterms:modified>
  <cp:revision>17</cp:revision>
  <dc:subject/>
  <dc:title>Slide 1</dc:title>
</cp:coreProperties>
</file>